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F931-4522-49AC-9F06-26C69F54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68D9-64CC-4849-9ED0-650DDDA5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2247-FD37-4B97-A7C3-B029016B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7929-B3B2-4ABB-8A6C-54D8BE734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499A-109D-4820-8F1C-993D61B3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9C63-7D01-4C27-8AA9-18921CC2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EA40-1104-4421-9EFD-2345F24D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1D96-5B79-43CA-838B-C06BDFC3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BEDB-5CA9-40F2-8C82-A12948A6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39CB-CEDE-4BF7-81FC-061C536C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72DF-65BB-4DE7-A40B-F9786114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7ED4-47F6-4FC1-BA46-A4B66BD8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4203-1BF1-464C-A13F-04E6B5AD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5202-1954-4B7B-B615-1A48254A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2A4A-32D8-44BA-8F2A-7AA693E0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096B-F53D-4FFD-8FE2-E83240A7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F402-4828-4C12-8B19-B5B6A2C8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2299-5DA4-4232-896C-7CA9A9A1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1351-6BD0-498B-AD1D-4F7BD21C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49A-5DC2-4CA1-A2A6-33AF69DA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3A33-95DF-4E80-B090-0E05FC37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5D18-DAC9-4D69-86E0-83B78EAA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10A5-CC17-4AF5-84EE-3B35A3B4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90B1-174C-4076-B228-2ABBB125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A698-B0D7-41F4-899B-F303EFD8748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7B6B-35BB-4B3E-A467-130FA6C0A6C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anklin Pierce U.S. president from 1853 to 1857 didnt like no politics and didn’t chose to be presid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anklin Pierce, United States president from 1853 to 1857, didn’t like politics and didn’t choose to be presiden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eewri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 minu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was your most humiliating/embarrassing moment so far in school? Write a description of i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dy for Vocabulary quiz tomorrow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esh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KAM questions and assign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 ch. 26 and 27 for tomorrow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un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tsby worksheet-can use book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tsby symbolism activ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erything is due at the end of the perio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2:34:16Z</dcterms:created>
  <dc:creator>rebecca</dc:creator>
  <dc:description/>
  <dc:language>en-US</dc:language>
  <cp:lastModifiedBy>rebecca</cp:lastModifiedBy>
  <dcterms:modified xsi:type="dcterms:W3CDTF">2009-03-11T18:45:15Z</dcterms:modified>
  <cp:revision>2</cp:revision>
  <dc:subject/>
  <dc:title>DOL</dc:title>
</cp:coreProperties>
</file>